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FF3-2501-4884-AD53-2C146A9BA3E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ésente la liste des mesures d’activation de la population active organisée selon deux dimensions : par type de mesures, qu’il faut entendre en termes d’accent sur les incitations ou sur les obligations; et par groupe cible, qu’il faut entendre par un accent sur les personnes handicapées ou sur les employeurs . Les exemples énumérés ne sont pas exhaustifs, mais visent à illustrer des types particuliers ainsi que la diversité des mesures utilisées en matière de politiques publiques et de prat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C022-D38B-4288-8F47-34B42ED55E07}" type="slidenum">
              <a:rPr b="0" lang="fr-CA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B36-E027-4D7A-9060-486E1504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8BA-0581-4633-9234-EB04DC1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A29-5FEE-42F9-AAC8-DFD5769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48F-9A63-404C-845F-0AF23DC5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BE51-6226-41E4-A05B-C914779B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1DA-82C5-4C99-9A2F-2DCA71B8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52E-01FD-42EE-9928-83149343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770-0DA2-41D2-8A50-1230B3D9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1C99-85EF-4760-A1D9-6CE0D91C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584B-9926-4130-B99A-0E5D567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0727-2D41-499A-83B4-4979950D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21B-9E9D-4A54-91CD-185FCBA8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1A13-1713-44B2-98E2-888A343F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E6F-F0CC-4540-A82F-4A34B0E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CB2-E586-4AEC-A99C-61659BCF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A52A-3DC4-4FCC-AFE7-5DE91CDD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ED9-866D-4286-9543-2AD33561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F9C7-E482-44AD-BD6F-5877FAB2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6732-C36E-42C4-A278-232DE55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2719-0045-46A4-A0A1-B2B50998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8286-BFF0-4573-8E98-4980BEDF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34BF-DBF8-48FA-9B7E-675CF67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BFC-E809-4914-B9CE-D818C92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58B3-8BBE-4256-AE95-E9AC97C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152A-C0FB-47A5-8C48-332FC16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91E1-9B36-4558-BEA1-36CD1CA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CBAE-B5CE-4F70-8525-20A1671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2C7A-9A13-4319-A1AB-B85D697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0551-A1A7-4818-B294-35B8A45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E8AB-2CB3-4918-AEB8-C9E1E96C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6FC6-F24D-40A5-AF10-E110E8B9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F4FE-BFE5-4123-B95B-0CC1DD1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2D2A-08F5-4085-BE14-B087DC3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9A0-D58F-4648-BF8E-A0C6FE7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D4AA-DD18-4DB8-8A17-A490EA0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11D4-7538-46BB-BFB3-98DE2B4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C94C-9D12-4F82-B985-30AF37C3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5F50-2917-4A34-BE32-6EA5A49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54C9-3CD0-4FD6-B1E1-A630010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E34D-2CCB-4A40-9A17-D7296756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C250-DE84-4D7F-BF40-0AD5A63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6D25-77A0-48E1-8505-182E90FB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F9F1-4E7A-4B33-8484-3D4AD322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7706-56FD-4257-B3FA-4E68FAC2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B60-A6AF-4CBC-AECA-88CC87A2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CDE8-FDA7-43CC-8C86-86A17DF8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017B-98B7-481D-A3B1-AD9D19B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1C2D-8CB3-4EA5-86EC-E9C4AC2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7D0A-14F9-4B21-919B-12F3CC9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4104-BE72-4589-A198-5A04290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996A-92D1-419E-A912-68B02C6A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06EF-7B8B-463A-B45B-239D0B64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66EF-8635-435F-8FA6-1A43A31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4F8B-D182-4891-BBF6-CA01360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3DED-0DF1-49E6-B701-8F4AC1D5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E6C-CDE3-4454-8332-674D790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3B45F-9037-4F86-9C39-94CFCDA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ACB-52F9-4943-9CCF-BEC32CF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99B-0AB1-468E-A0F0-9CFB323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E73-27C1-4A5F-9BED-D515BAF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ACAA-76A1-4484-95E8-9A2BC72FB7CB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38C-AA8D-4577-B4C1-0C444D2DA658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884-6681-49DE-9D30-1CAE09564115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BDA8-7878-43E5-BD6F-B3A196D039D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7612-CA7E-4EEB-A023-0554481FEBE7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869-0FFC-4768-B7C4-5B9A2B523400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CCB9-7695-4929-9209-91E2F0D081D8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4CF4-D602-4FC9-A37F-E29E16CE6677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AA9-34E4-4433-9B09-6ED3653F7F29}" type="datetime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25D-EEA9-4BFA-B7D6-18DBBB66CFC6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prince@uvic.ca" TargetMode="External"/><Relationship Id="rId2" Type="http://schemas.openxmlformats.org/officeDocument/2006/relationships/hyperlink" Target="http://www.ccdonline.ca/fr/socialpolicy/poverty-citizenshi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84836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d2533c"/>
                </a:solidFill>
                <a:latin typeface="Arial"/>
              </a:rPr>
              <a:t>PROMOUVOIR LA PARTICIPATION DES  PERSONNES HANDICAPÉES AU MARCHÉ DU TRAVAIL : PRATIQUES ET LEÇONS INTERNATIONALES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5640" y="3573360"/>
            <a:ext cx="64087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Présentation au Savoir actif de Ressources humaines et Développement des compétences Canad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Michael Prince, Ph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Université de Victori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7576e"/>
                </a:solidFill>
                <a:latin typeface="Arial"/>
              </a:rPr>
              <a:t>12 janvier 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8" name="Picture 4" descr="uvic-bc"/>
          <p:cNvPicPr/>
          <p:nvPr/>
        </p:nvPicPr>
        <p:blipFill>
          <a:blip r:embed="rId1"/>
          <a:stretch/>
        </p:blipFill>
        <p:spPr>
          <a:xfrm>
            <a:off x="5651640" y="5013360"/>
            <a:ext cx="2857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cès à l’apprentissage, la formation et au finance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ppréciation des compétences et de la productivité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réseaux d’amis, de confidents et de compagn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nseils personnalisés en matière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Entrevues axées sur l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Mesures précoces de réadaptation professionnel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citatifs financiers visant à aider les personnes handicapées à couvrir les frais de subsistance associés à leur incapacité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Forums d’employeurs sur l’incapacité, financés et administrés par les groupes d’employeu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E92-58AF-4A47-9F2C-70196E4856E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Services et soutiens à l’emploi 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ersonnel dévoué et dédié à l’offre de services aux cli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tivités de recherche d’emploi personnalisées et formation adaptée visant à promouvoir les capacités et les points forts de chaque cli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justement du rythme auquel les personnes évoluent vers le maintien d’un emploi en fonction de leur profil d’employabilité et de leurs circonstances personnell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Reconnaissance et réponse aux besoins variables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formation et conseils, notamment retombées des prestations de revenu et autres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ccompagnement des clients lors des entrevues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rrespondance des qualifications aux exigences d’emploi du marché du travail loca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716-C5AE-45A0-BCFD-F7D8F2367EBD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Facilitat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Soutiens et services aux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escription détaillée des tâches de la part des employeu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onseils et information sur les technologies d’assistance, la formation spécialisée, l’emploi subventionné et l’accommodement raisonnabl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Gestion de l’incapacité, la surveillance des absences dues à une maladie et la planification du retour au travai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outien pratique et émotionnel continu tant pour les clients que pour les employeurs afin de les aider à résoudre les problèmes susceptibles de se présent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articipation et aides actives de la part des organismes partenair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1C8B-4724-4BBE-A14C-2B36371F3898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Responsabilités des employ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Les lois sur la protection de l’emploi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révoient parfois des exemptions pour les petites et moyennes entreprises, et excluent les formes d’emploi hors normes telles que la main-d’œuvre occasionnelle et temporaire ou à temps partiel, soit autant de segments potentiellement importants pour le travail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es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quotas d’emploi obligatoires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mposés aux employeurs qui sont tenus d’embaucher un certain nombre de personnes handicapées; une approche trop peu répand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données sur les effets des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lois anti-discrimination 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ur l’emploi des personnes handicapées ne sont pas concluantes (OCDE 2007 : 16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E13B-8BD2-4593-96E2-1790AC2B6662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Incitatifs financiers pour les employeu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292934"/>
                </a:solidFill>
                <a:latin typeface="Arial"/>
              </a:rPr>
              <a:t>Les instruments politiques les plus répandus à travers l’OCD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Réductions d’impôt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associées aux primes de sécurité sociale (réductions des primes),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prêts aux entrepris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et </a:t>
            </a: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subventions direct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ou allègements fiscaux pour l’adaptation du milieu de travail permettant le recrutement et la rétention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92934"/>
                </a:solidFill>
                <a:latin typeface="Arial"/>
              </a:rPr>
              <a:t>Régimes de subventions salariales</a:t>
            </a: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 susceptibles d’aider les personnes handicapées à augmenter leur capital humain, à acquérir une expérience de travail et développer des compétences susceptibles d’être transférables à des postes ne bénéficiant pas de subven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 taux de souscription à ces programmes est souvent ba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’impact des régimes d’emploi subventionnés est «flou» quant à la différence entre le recrutement et le maintien en poste des personnes handicapé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1B67-9DC3-4DD4-9749-49D3E4DAB90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Relations de collabor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90320"/>
            <a:ext cx="822960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Les forums d’employeurs 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peuvent constituer des instruments efficaces, sur les plans régional et sectoriel, pour la participation des acteurs non gouvernementaux aux décisions concernant les mesures d’emploi actives 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rassembler les meilleurs employeurs et les groupes d’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méliorer l’image publique de la question de l’emploi des personnes handicapé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établir un lien entre les employeurs et les responsables gouvernementau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établir le contact entre les personnes handicapées et les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générer des politiques et des pratiques inclusives en milieu de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CDE-661C-4A5F-A3A7-2C12D6B28FE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Occasions pour l’innova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ollaborer afin de changer les attitudes négatives envers les personnes handicapées en ce qui a trait au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Subventionner l’établissement des petites entreprises par les personnes handicapées et le renforcement des entreprises socia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Renforcer les incitatifs et l’appui aux employe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ider les fournisseurs de services d’emploi à faire une transition des ateliers protégés vers le marché du travail ouve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onsolider le soutien à l’emploi et les milieux de travail inclusif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Merc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292934"/>
                </a:solidFill>
                <a:latin typeface="Arial"/>
              </a:rPr>
              <a:t>Michael J. Pri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292934"/>
                </a:solidFill>
                <a:latin typeface="Arial"/>
              </a:rPr>
              <a:t>Professeur titulaire de la chaire Lansdowne en politique socia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Faculté de Développement social et humain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Université de Victo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mprince@uvic.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i="1" lang="en-CA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92934"/>
                </a:solidFill>
                <a:latin typeface="Arial"/>
              </a:rPr>
              <a:t>ARUC Pauvreté invalidante et citoyenneté habilitan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cdonline.ca/fr/socialpolicy/poverty-citizensh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Nos discussions aujourd’hu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politiqu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constituent d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obstacl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à la participation des personnes handicapées au marché du travail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politiqu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facilitent 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l’intégration des personnes handicapées au marché du travail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Quelles 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leçon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 peuvent être tirées des pratiques d’emploi prometteuses à l’</a:t>
            </a:r>
            <a:r>
              <a:rPr b="1" lang="fr-CA" sz="2400" spc="-1" strike="noStrike">
                <a:solidFill>
                  <a:srgbClr val="292934"/>
                </a:solidFill>
                <a:latin typeface="Arial"/>
              </a:rPr>
              <a:t>échelle internationale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7D52-B628-4BBD-903B-6A9112704B33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Échantillon internation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d2533c"/>
                </a:solidFill>
                <a:latin typeface="Arial"/>
              </a:rPr>
              <a:t>États libéraux anglo-sax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ustrali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r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Nouvelle-Zé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Royaume-Uni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États-Unis d’Amériq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3932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2533c"/>
                </a:solidFill>
                <a:latin typeface="Arial"/>
              </a:rPr>
              <a:t>États scandinaves et européen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54160" y="2438280"/>
            <a:ext cx="3932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Danemar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Finland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ays-Ba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Norvège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uèd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92F-57B6-491D-B1A9-CD418C238966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Sour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Michael J. Prince (2006) </a:t>
            </a:r>
            <a:r>
              <a:rPr b="1" lang="fr-CA" sz="1800" spc="-1" strike="noStrike">
                <a:solidFill>
                  <a:srgbClr val="292934"/>
                </a:solidFill>
                <a:latin typeface="Arial"/>
              </a:rPr>
              <a:t>Les pratiques exemplaires internationales en matière de prestation des services aux personnes handicapées : leçons apprises auprès d’autres pays et options pour Service Cana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Michael J. Prince (2007)</a:t>
            </a:r>
            <a:r>
              <a:rPr b="1" lang="fr-CA" sz="1800" spc="-1" strike="noStrike">
                <a:solidFill>
                  <a:srgbClr val="292934"/>
                </a:solidFill>
                <a:latin typeface="Arial"/>
              </a:rPr>
              <a:t> Labour Market Participation of Canadians with Disabilities: Trends, Obstacles, Facilitators, Policy Lessons and Options for Positive Outcom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Prince (2010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New Strategic Directions for Active Employment Measures for Persons with Disabilities: A Literature Review and Policy Research Agenda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OECD (2010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Sickness, Disability and Work: Breaking the Barrier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Prince (2011)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 Gaining, Maintaining and Returning to Employment:</a:t>
            </a:r>
            <a:r>
              <a:rPr b="1" i="1" lang="en-CA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A Synthesis Report on Challenges and Successes of People With Disabilities in Canad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92934"/>
                </a:solidFill>
                <a:latin typeface="Arial"/>
              </a:rPr>
              <a:t>World Health Organization (2011) </a:t>
            </a:r>
            <a:r>
              <a:rPr b="1" lang="en-CA" sz="1800" spc="-1" strike="noStrike">
                <a:solidFill>
                  <a:srgbClr val="292934"/>
                </a:solidFill>
                <a:latin typeface="Arial"/>
              </a:rPr>
              <a:t>World Report on Disability</a:t>
            </a:r>
            <a:r>
              <a:rPr b="1" lang="en-CA" sz="20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0410-FD1C-4D78-B9D0-141F94DA213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Programmes actifs du marché du travail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292934"/>
                </a:solidFill>
                <a:uFillTx/>
                <a:latin typeface="Arial"/>
              </a:rPr>
              <a:t>Programmation active du marché du travail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6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services publics et administration des mesures d’emploi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formation et aides spéciales à l’apprentiss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de rotation et de partage du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incitatives à l’emploi pour le recrutement et le maintien en pos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assistance et réadaptation en milieu de travai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création directe d’emplois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mesures incitatives en matière de travail indépendant et création d’entrepris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292934"/>
                </a:solidFill>
                <a:uFillTx/>
                <a:latin typeface="Arial"/>
              </a:rPr>
              <a:t>Mesures connexes</a:t>
            </a:r>
            <a:r>
              <a:rPr b="0" lang="fr-CA" sz="2400" spc="-1" strike="noStrike">
                <a:solidFill>
                  <a:srgbClr val="292934"/>
                </a:solidFill>
                <a:latin typeface="Arial"/>
              </a:rPr>
              <a:t>: Lois et règlements, prestations de revenu, compagnes de marketing soci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Slide Number Placeholder 6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EB2C-07D7-4D6C-9424-7B21EAAC6F36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Tendances internationa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Le taux d’emploi des personnes handicapées dans la plupart des pays industrialisés se situe entre 30 % et 50 %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Le taux d’emploi des personnes handicapées a baissé entre le milieu des années 1990 et le milieu des années 2000 dans huit pays, il est demeuré stable dans huit autres et a augmenté dans sept pay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À l’instar de la Finlande et des Pays-Bas, le Canada a observé une augmentation modérée de la croissance annuelle moyenne du taux d’emploi des personnes handicapées, alors que l’Irlande, le Mexique, l’Espagne et le Royaume-Uni ont observé des taux de croissance relativement plus fort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292934"/>
                </a:solidFill>
                <a:latin typeface="Arial"/>
              </a:rPr>
              <a:t>Comparées aux personnes sans incapacité, celles ayant une incapacité ont tendance à occuper des emplois à court terme, à temps partiel, autonomes ou dans ‘l’économie informelle’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114-6531-46C9-938B-D63EC1553AB0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Mesures d’activation liées à l’incapacité : types de politiques et groupes cibl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935000"/>
          <a:ext cx="7848360" cy="4518360"/>
        </p:xfrm>
        <a:graphic>
          <a:graphicData uri="http://schemas.openxmlformats.org/drawingml/2006/table">
            <a:tbl>
              <a:tblPr/>
              <a:tblGrid>
                <a:gridCol w="1385640"/>
                <a:gridCol w="2538360"/>
                <a:gridCol w="392436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nes handicapé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ur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239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ures incitatives et soutien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éadaptation professionnelle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rédits d’impô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ide au travail indépendan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artenariats en matière de création d’emploi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éveloppement des compétenc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unselling individue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ervices d’aide à l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ppléments de revenu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ventions salarial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imes d’assurance sociale assorties de réductions d’impôt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êts aux entreprises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ubventions pour l’adaptation du milieu de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ites d’inform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Services de mentorat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ormation et développement des entreprises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artenariats sur le marché du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ournisseurs de services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nsultants en gestion de l’incapacité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9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ligations et sanction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Évaluation obligatoire des activité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Évaluations de la capacité de travail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stations limitées dans le temp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urs de form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Exigences en matière de recherche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Quotas ou cibles d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égislation en matière de protection de l’emploi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ormes d’accessibilité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Lois sur les droits de la personne et de l’anti-discrimination visant les personnes handicapé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Fixation de taux particuliers des primes d’assurance des employeurs en matière de prestation-maladie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249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CEE-49B6-47CB-BB4C-A70D1E08A4E7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d2533c"/>
                </a:solidFill>
                <a:latin typeface="Arial"/>
              </a:rPr>
              <a:t>Pratiques prometteus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es pratiques exemplaires à l’échelle internationale sont manifestes dans trois approches stratégiques :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La réforme des procédures d’évaluation afin qu’elles portent davantage sur les capacités des personnes et leurs aptitudes à travaill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Changement des structures de prestation pour améliorer les incitations au travail, notamment l’offre d’incitations financières aux employeurs et/ou aux employés qui ont une capacité réduite partielle de travai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Inclusion des services de réadaptation et d’emploi dans l’aide à la recherche d’emploi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Transition des ateliers protégés au soutien à l’emploi et/ou aux entreprises social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C8EB-3F13-4348-A2EA-618CA0C4E398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d2533c"/>
                </a:solidFill>
                <a:latin typeface="Arial"/>
              </a:rPr>
              <a:t>Obstacles : une constance frappante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292934"/>
                </a:solidFill>
                <a:latin typeface="Arial"/>
              </a:rPr>
              <a:t>Dans les systèmes des politiques et de prestation de services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Prédominance des modèles d’évaluation médic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pproche traditionnelle des services sociaux par de nombreuses aides communautaires, p. ex., programmes de jour séparé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Maintien des ateliers protégés et autres milieux de travail réservé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292934"/>
                </a:solidFill>
                <a:latin typeface="Arial"/>
              </a:rPr>
              <a:t>Dans les mesures d’activation de l’emploi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Absence d’aide personnelle visant à faciliter l’accè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Offre limitée de servic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Arial"/>
              </a:rPr>
              <a:t>Services d’accès à l’emploi sont parfois réduits pour certains groupes, notamment les nouveaux demandeurs comparés aux clients exist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029-3C14-4928-A777-7ACBA365579E}" type="slidenum">
              <a:rPr b="1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22:19:09Z</dcterms:created>
  <dc:creator>Michae Jl Prince</dc:creator>
  <dc:description/>
  <dc:language>en-US</dc:language>
  <cp:lastModifiedBy>valerie.laflamme</cp:lastModifiedBy>
  <dcterms:modified xsi:type="dcterms:W3CDTF">2012-01-12T15:26:09Z</dcterms:modified>
  <cp:revision>62</cp:revision>
  <dc:subject/>
  <dc:title>Advancing the participation of people with disabilities in the labour market </dc:title>
</cp:coreProperties>
</file>